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D061-BE3C-42BA-91D2-FE466962B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FE12-0F85-43BA-A02F-E1A261771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40C9-37C6-4CFD-A24D-9C3898C50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16B9-95F4-490E-8025-663E7EEB5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9D2E-8E54-4F44-BAA8-45AB69F2F3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89DA-7E0A-4308-8A07-4704AF7C16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19F5-CF0F-4D88-BD80-73B98CC34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008D-0542-4B94-A1EA-BB331BF076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AF69-5CE9-48C0-BDE7-0523F832A0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E30C-7DCE-4C35-83A6-FB42243C65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DE2C-F400-45B6-BB64-CD733909E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3756-31B2-4FA1-A22D-31E712073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7385-33B5-4A3E-9876-D155C38F9A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8051-7DF8-4C9E-92B6-1C0C61724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17F4-6D93-4B23-BF50-9205FC1352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F090-C397-4A36-8854-C16D08CBBD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9F56-A3B0-4066-AF50-B9A407FB9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A400-2081-4E97-88EE-DA267574C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8B97-C603-4139-AECB-A1A170F7E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1544-8730-461E-AE6F-C33006716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E30D-609C-449B-98A6-E369DE423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FD77-C9BF-4996-A6C4-78CD562A3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4C3A-9AE0-42DC-9ECE-D7AB97DC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3B95-A4C8-4C12-BF02-2541CAD39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969-5D6C-4FA6-B9A8-BA0AD82B674F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2C8-9D4F-4A1D-AB16-EF822A850581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segen.co.uk/eng/wind/windspeed.htm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esson 2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ll about GI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(which stands for Geographic Information Systems)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C981-F642-41C2-A919-470BFB0B5A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formation can be shared between utilities via a secure web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website uses a GIS to pinpoint the location of water mains, gas pipes, electricity cables and sewers as well as details of current and future work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llowing all the utilities to access this information means that all utilities can agree to carry out work at the same tim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igging up the road only once helps to minimise public disruption and saving time and money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765000"/>
            <a:ext cx="2678400" cy="2111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724360" y="2997360"/>
            <a:ext cx="28735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8230-A5A5-4E35-AF42-E874EF5539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ne more exampl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t’s a breeze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AB2B-63FB-4194-AF95-B14A09BB61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 farms can provide a source of alternative energy but finding the right location for the turbines can be difficul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works for an energy company that is keen to investigate the use of wind turbines as an alternative way of generating pow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is asked to work on a project to identify suitable sites for a new wind farm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ation needs to balance environmental concerns with operational efficiency.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724360" y="1773360"/>
            <a:ext cx="30308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0282-E71D-4737-BF8F-461A7605D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has followed the debate in the newspapers and knows that the effect of the turbines’ appearance on the landscape is a major concer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any other factors, however, also need to be considered when choosing a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se include wind speed, wind direction, distance from the existing electrical grid system, access to the site, size of the site and the shape and profile of the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535200" cy="2721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56360" y="4064040"/>
            <a:ext cx="259236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7D84-B911-4E07-9CBC-18D1347EA7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y inputting data from various sources regarding weather, civil and military airfields, telecommunications and environmental organisations, Dave begins to put together a case for the available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still needs to take into account the height and spacing of the turbines so that they can produce the required amount of electricity balanced against their visual impac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13200" cy="2993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99200" y="4213440"/>
            <a:ext cx="1930320" cy="14554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yone spy anything wrong with this map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303F-AA22-4032-B59B-A0A67B09BF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adds height data and information to produce a 3D model giving a virtual view of the site as it would appear from different directions, distances and perspectiv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enables him to focus on particular locations to check the turbines’ impact on the view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formation Dave produces is used to support planning applications and to reassure local residents that the wind farm will cause minimal disrup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2884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CFB0-4978-47B8-AC65-8F5CEC851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o find out if you could use a wind turbine on your hous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SK YOUR PARENTS FIRS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n go to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http://www.segen.co.uk/eng/wind/windspeed.ht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nter business type – residential, you name etc and press Looku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f the answer is 5 or better still 5.5 m/s then your home is potentially a good place to put a small wind turbine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3AB0-2E53-4B75-BA88-604A92D977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ow for the worksheet and to work towards your 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6D2F-29F0-4386-A052-038BE3A8A6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7503-82B6-4FDE-97B0-EDC54FCBE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3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D935-875E-463C-BD0C-960B2A8EA8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What is GIS?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Introduction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aper maps only tell us where a place is.  GIS uses digital maps and information to help us make decisions and solve problem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Hardware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GIS runs on mainframe computers, PCs, small PDAs or even mobile phones to organise information and map the results of investig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949480" cy="21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E97F-0B8D-455B-A17B-D988AA218F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3887-B6C5-4F89-9741-FA46022A42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771480"/>
            <a:ext cx="8064360" cy="551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B68E-8C0D-4951-8717-52577DAB5B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lick on the  ‘i’ by Lockerford to find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Population - 2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small village to the west of Melches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t grew on the site of a ford that farmers used when bringing their cattle to Melchester marke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Now seen as one of the most desirable and expensive places to live in the area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ots of commuters choose to live ther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atest flood information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Casualties – 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vacuations - 100 peop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stimated insurance claims - £ 50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D851-83A7-4E9E-B86D-A39633D024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1. Locker Valley Storage basi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525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arth-moving equipment will dig out two large basins connected to the river by drainage channel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imes of high water, flood gates are opened allowing water to drain away from the river into the basin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ker Valley meadows are home to many wetland bird species that will be disturbed during construction. However, long term the wildlife will benefi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people of Lockerby are likely to be upset by all the noise from the earth moving machiner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5451480" y="981000"/>
            <a:ext cx="3584520" cy="439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20163600">
            <a:off x="5651640" y="2997360"/>
            <a:ext cx="50472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dc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342C-1F3B-4D1F-B6BC-1599783E3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aving gathered the inform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68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will need to put in a sco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you cannot really do that until you know a bout ALL the site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ence the worksheet I hope you have open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148360" y="1125360"/>
            <a:ext cx="345600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39CC-71DB-4831-A967-E0EE8473D6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2. Locker Brook Relief Channe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547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0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large drainage channel connecting the Locker Brook to the River Falm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t times of high water, a flood gate is opened which allows the floodwater to be safely diverted past west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No opposition whatsoever from local residents, although the nearby main road will need to be closed during construc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Some high quality farmland to the south-west of Melchester will also be los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432480" y="981000"/>
            <a:ext cx="2459160" cy="374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6877080" y="4365360"/>
            <a:ext cx="574560" cy="718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FC07-6DEB-4186-AD6A-F6256EC5B9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3. Melchester drain by pas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otal Cost = £ 12.0 mill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large underground tunnel offering a more direct escape route for floodwater from the River Falm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t times of high water, the tunnel is opened diverting water from the meanders near the town centr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ittle environmental impact but local residents concerned about possible damage to houses caused by tunnel excavation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156360" y="907920"/>
            <a:ext cx="1919160" cy="2880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 flipV="1">
            <a:off x="7956720" y="2565000"/>
            <a:ext cx="792000" cy="142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1666-7CF8-4B5C-8D8F-59D6D8E851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4. Falmer Ring Dyk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massive ringed embankment around the Falmer Levels which would allow floodwaters from the River Falmer and the River Dank to be held back, protecting all of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ould cause significant damage to the environment during construction due to the amount of earth that would need to be mov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is expected to fill only once every 200 yea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eople living in north Melchester are likely to be upset by the noise from all the earth moving machinery require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6459480" y="981000"/>
            <a:ext cx="237960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8011-3609-4572-BE9A-47ACCDCC7B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5 Swinford temporary basin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emovable flood walls that can be mounted into place with relatively little warning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ittle environmental impac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Swinford are highly supportive of the proposal although the people of Melchester are concerned that it would merely divert floodwater downstream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300720" y="1125360"/>
            <a:ext cx="2498760" cy="280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8101080" y="2852280"/>
            <a:ext cx="28728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8B44-051E-41A7-B84B-5455A40E90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6. Bend Flood Wal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permanent flood wall made                            from local stone built to protect                 the village of Ben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would also allow access to                          Bend and Narrowbridge during                         times of flood when the main                       road is block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Bend are highly supportive of the proposal although the Bridgefordshire Tourist Board is concerned that it will ruin the lovely scenic view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508720" y="1052640"/>
            <a:ext cx="3330360" cy="2006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7092720" y="549360"/>
            <a:ext cx="647640" cy="1366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9546-9613-43A7-B78A-2AEF30110A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Softwar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GIS software is a set of computer ‘tools’ for collecting, storing, processing and displaying sets of information linked to places on maps. 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re are different types of GIS ‘tools’:  for instance, a GIS that analyses land use is different from a GIS that maps the quickest route to a fi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4240080" cy="31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152B-13E3-4FF0-850C-1EEA0C792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Electronic maps and images: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 essential component of any GIS is some kind of map or image of an area. This can be a digital map, satellite image or aerial photograph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Many GIS will use a full range of map data and images as a base to link information agains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 maps are produced  either as raster or vector dat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50920" y="4005000"/>
            <a:ext cx="8208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Raster map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se are images made by a series of coloured dots on a screen (pixels), just like high quality digital photograph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can be thought of as ‘unintelligent’ as you can only obtain information that is visually represented on them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take up a lot of computer storage space but can be very useful as background maps to other information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5361120" y="765000"/>
            <a:ext cx="3531960" cy="2586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4D53-2B36-4195-AD62-589FBE8A6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Vector maps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ach vector map feature is recorded using XY coordinat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se may be a single point (like a trig point), lines (such as roads) or polygons (such as buildings or woods)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referenced features of vector maps make it possible for a GIS to link information from spreadsheets and databases to the map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Vector data is stored in themed layers such a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oads, water, settlemen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003640" y="981000"/>
            <a:ext cx="3781440" cy="28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9302-2A61-4B0D-BF5E-4C81DFDDD2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392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Data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asier to make sense of complicated spreadsheets and databases when they are linked to maps in a GI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stimated that over 80% of all data has some link to a geographic pla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People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 vital ingredient!  We need people who understand digital maps and databases and know how to use GIS to organise the data on map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y can ask the right questions and produce new maps showing the results. 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is helps to plan the way we live and use our environment for the futur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6000" y="115920"/>
            <a:ext cx="3092400" cy="2274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791320" y="2349360"/>
            <a:ext cx="310176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796000" y="4594320"/>
            <a:ext cx="30798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C06A-A4A8-45E5-9FCF-65C85E278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 example of how it wor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 Hole Story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37B2-2A93-45B0-94A2-4B34EE46D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vast networks of underground pipes supplying our water, electricity and gas are hidden from view, so how do we know where it’s safe to dig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Louise works for a water authority to maintain the company's network of water mains and sewe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he uses a GIS to create a complete overview of the pipeline which helps her to monitor its condition and performan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716360" y="1413000"/>
            <a:ext cx="37101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4833-3530-4DC0-82E5-FF7D100F53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 minimise the risks involved in digging trenches, laying cables and other maintenance and building projects, utility companies must share their underground asset maps upon request with other organis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GIS is built up of lots of different layers of information which users can Switch on and off depending on their nee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4092480" cy="32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6B4F-C297-4C05-9C0F-60D6A11D8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21:00:19Z</dcterms:created>
  <dc:creator>Lindy</dc:creator>
  <dc:description/>
  <dc:language>en-US</dc:language>
  <cp:lastModifiedBy>Lindy</cp:lastModifiedBy>
  <dcterms:modified xsi:type="dcterms:W3CDTF">2009-09-08T23:24:24Z</dcterms:modified>
  <cp:revision>2</cp:revision>
  <dc:subject/>
  <dc:title>Lesson 2 All about G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